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DE80-C091-4E1E-9D7E-7DA3FF2C2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2285-D4A5-4E20-9059-2B930AD98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4D4A-47EB-4BAF-A58B-62B5A2E32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71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986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3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71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986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DBCE-5AA2-430C-8439-1321859C3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A7121-0E8F-4E1A-9970-31A69B4AB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8F1A1-FB66-4B26-9BAE-BE4D5CE75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99337-42A6-4E9D-A2D0-A5E7D056B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43F05-D8E1-42B3-9871-84C59FBAC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4C08E-CC77-4052-90F8-6B5440BC2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514600" y="380520"/>
            <a:ext cx="6400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FE254-67A6-45F7-8DD2-78D0EFC38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C70BA-E9D9-444E-B61F-98E95084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A491-0840-480E-A692-CFC8351EF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5B570-C718-41C2-9AAF-E2175311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0852F-10BE-46B2-8D4E-77E0B533F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22164-382E-4E86-B380-536A53021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DBEC7-EE71-487E-B756-B28E6299B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71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986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3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771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986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2E35D-DB9E-45C3-91AB-8D67E0369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4D240-D7F8-4B3F-B660-B2E6A2DAC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0D954-D1AD-4364-80C8-92DEC93F4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13120-007E-4D9A-A0B5-299CBF4D7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56253-D9D5-4BD7-8DE0-1D045D0BB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A0558-A79E-4CF3-8D1A-3EE8172C8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B1C7-F65D-4CA9-B8E2-01D66FDE4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2514600" y="380520"/>
            <a:ext cx="6400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22C88-381A-4E13-8608-1D7FC6F2B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80E64-8EDE-44B6-8C55-A6F1D4A5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7B4BB-46B8-480D-8F62-0EDAB185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6F402-D0E8-4EAA-BDC8-37FC47EC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E6DF5-B2B8-4745-867F-E220E2B15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6AECD-CE49-4FA0-A88B-528B33E3E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771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3986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143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771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3986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D1EE2-782C-4363-BD04-77647CA15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5841-C0D3-471B-A722-E07295964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840D-FC05-4B62-A110-4BA0CEB51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514600" y="380520"/>
            <a:ext cx="6400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4541-36F2-4B76-8955-0068A670F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3367-F040-4887-BCA6-FA670B6E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A183-7A80-4640-A6E9-0BF3413B5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2F72-375A-4244-8934-70391D631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educatcarhou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58835-0CDF-4525-9228-1DE7D3752A6E}" type="slidenum">
              <a:rPr b="0" lang="ro-R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educatcarhou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Arial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971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ccecff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ccec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ccecff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8F92A-F06F-47B3-AED2-50ED00319E4B}" type="slidenum">
              <a:rPr b="0" lang="ro-RO" sz="14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9900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9900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F70AD-2AE5-4AAC-8E44-8A13D4F601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15.xml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360" y="380520"/>
            <a:ext cx="8231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Bun</a:t>
            </a:r>
            <a:r>
              <a:rPr b="0" lang="ro-RO" sz="4800" spc="-1" strike="noStrike">
                <a:solidFill>
                  <a:srgbClr val="ffff00"/>
                </a:solidFill>
                <a:latin typeface="Arial"/>
              </a:rPr>
              <a:t>ă ziua, copii!</a:t>
            </a:r>
            <a:endParaRPr b="1" lang="en-US" sz="48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u sunt elef</a:t>
            </a:r>
            <a:r>
              <a:rPr b="0" lang="ro-RO" sz="3200" spc="-1" strike="noStrike">
                <a:solidFill>
                  <a:srgbClr val="ffff00"/>
                </a:solidFill>
                <a:latin typeface="Tahoma"/>
              </a:rPr>
              <a:t>ănţelul Dumbo. Sunt foart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00"/>
                </a:solidFill>
                <a:latin typeface="Tahoma"/>
              </a:rPr>
              <a:t>supărat că am pierdut-o pe mămica... Mă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00"/>
                </a:solidFill>
                <a:latin typeface="Tahoma"/>
              </a:rPr>
              <a:t>ajutaţi s-o găsesc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95280" y="4941720"/>
            <a:ext cx="439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ffff00"/>
                </a:solidFill>
                <a:latin typeface="Arial"/>
              </a:rPr>
              <a:t>23+       =28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050920" y="5084640"/>
            <a:ext cx="935280" cy="7192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>
            <a:hlinkClick r:id="" action="ppaction://hlinkshowjump?jump=lastslide"/>
          </p:cNvPr>
          <p:cNvSpPr/>
          <p:nvPr/>
        </p:nvSpPr>
        <p:spPr>
          <a:xfrm>
            <a:off x="5148360" y="4941720"/>
            <a:ext cx="1511280" cy="1125720"/>
          </a:xfrm>
          <a:custGeom>
            <a:avLst/>
            <a:gdLst>
              <a:gd name="textAreaLeft" fmla="*/ 72720 w 1511280"/>
              <a:gd name="textAreaRight" fmla="*/ 1438560 w 1511280"/>
              <a:gd name="textAreaTop" fmla="*/ 72720 h 1125720"/>
              <a:gd name="textAreaBottom" fmla="*/ 1053000 h 1125720"/>
            </a:gdLst>
            <a:ahLst/>
            <a:rect l="textAreaLeft" t="textAreaTop" r="textAreaRight" b="textAreaBottom"/>
            <a:pathLst>
              <a:path w="28996" h="21600">
                <a:moveTo>
                  <a:pt x="0" y="0"/>
                </a:moveTo>
                <a:lnTo>
                  <a:pt x="28996" y="0"/>
                </a:lnTo>
                <a:lnTo>
                  <a:pt x="28996" y="21600"/>
                </a:lnTo>
                <a:lnTo>
                  <a:pt x="0" y="21600"/>
                </a:lnTo>
                <a:close/>
              </a:path>
              <a:path fill="lightenLess" w="28996" h="21600">
                <a:moveTo>
                  <a:pt x="0" y="0"/>
                </a:moveTo>
                <a:lnTo>
                  <a:pt x="28996" y="0"/>
                </a:lnTo>
                <a:lnTo>
                  <a:pt x="27596" y="1400"/>
                </a:lnTo>
                <a:lnTo>
                  <a:pt x="1400" y="1400"/>
                </a:lnTo>
                <a:close/>
              </a:path>
              <a:path fill="darken" w="28996" h="21600">
                <a:moveTo>
                  <a:pt x="28996" y="0"/>
                </a:moveTo>
                <a:lnTo>
                  <a:pt x="28996" y="21600"/>
                </a:lnTo>
                <a:lnTo>
                  <a:pt x="27596" y="20200"/>
                </a:lnTo>
                <a:lnTo>
                  <a:pt x="27596" y="1400"/>
                </a:lnTo>
                <a:close/>
              </a:path>
              <a:path fill="darkenLess" w="28996" h="21600">
                <a:moveTo>
                  <a:pt x="289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96" y="20200"/>
                </a:lnTo>
                <a:close/>
              </a:path>
              <a:path fill="lighten" w="289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>
            <a:hlinkClick r:id="rId2" action="ppaction://hlinksldjump"/>
          </p:cNvPr>
          <p:cNvSpPr/>
          <p:nvPr/>
        </p:nvSpPr>
        <p:spPr>
          <a:xfrm>
            <a:off x="7020000" y="4941720"/>
            <a:ext cx="1511280" cy="1125720"/>
          </a:xfrm>
          <a:custGeom>
            <a:avLst/>
            <a:gdLst>
              <a:gd name="textAreaLeft" fmla="*/ 72720 w 1511280"/>
              <a:gd name="textAreaRight" fmla="*/ 1438560 w 1511280"/>
              <a:gd name="textAreaTop" fmla="*/ 72720 h 1125720"/>
              <a:gd name="textAreaBottom" fmla="*/ 1053000 h 1125720"/>
            </a:gdLst>
            <a:ahLst/>
            <a:rect l="textAreaLeft" t="textAreaTop" r="textAreaRight" b="textAreaBottom"/>
            <a:pathLst>
              <a:path w="28996" h="21600">
                <a:moveTo>
                  <a:pt x="0" y="0"/>
                </a:moveTo>
                <a:lnTo>
                  <a:pt x="28996" y="0"/>
                </a:lnTo>
                <a:lnTo>
                  <a:pt x="28996" y="21600"/>
                </a:lnTo>
                <a:lnTo>
                  <a:pt x="0" y="21600"/>
                </a:lnTo>
                <a:close/>
              </a:path>
              <a:path fill="lightenLess" w="28996" h="21600">
                <a:moveTo>
                  <a:pt x="0" y="0"/>
                </a:moveTo>
                <a:lnTo>
                  <a:pt x="28996" y="0"/>
                </a:lnTo>
                <a:lnTo>
                  <a:pt x="27596" y="1400"/>
                </a:lnTo>
                <a:lnTo>
                  <a:pt x="1400" y="1400"/>
                </a:lnTo>
                <a:close/>
              </a:path>
              <a:path fill="darken" w="28996" h="21600">
                <a:moveTo>
                  <a:pt x="28996" y="0"/>
                </a:moveTo>
                <a:lnTo>
                  <a:pt x="28996" y="21600"/>
                </a:lnTo>
                <a:lnTo>
                  <a:pt x="27596" y="20200"/>
                </a:lnTo>
                <a:lnTo>
                  <a:pt x="27596" y="1400"/>
                </a:lnTo>
                <a:close/>
              </a:path>
              <a:path fill="darkenLess" w="28996" h="21600">
                <a:moveTo>
                  <a:pt x="289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96" y="20200"/>
                </a:lnTo>
                <a:close/>
              </a:path>
              <a:path fill="lighten" w="289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900000" y="5013360"/>
            <a:ext cx="403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ff0000"/>
                </a:solidFill>
                <a:latin typeface="Arial"/>
              </a:rPr>
              <a:t>27-       =7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84360" y="5157720"/>
            <a:ext cx="935280" cy="719280"/>
          </a:xfrm>
          <a:prstGeom prst="rect">
            <a:avLst/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>
            <a:hlinkClick r:id="" action="ppaction://hlinkshowjump?jump=lastslide"/>
          </p:cNvPr>
          <p:cNvSpPr/>
          <p:nvPr/>
        </p:nvSpPr>
        <p:spPr>
          <a:xfrm>
            <a:off x="6948360" y="4941720"/>
            <a:ext cx="1511280" cy="1125720"/>
          </a:xfrm>
          <a:custGeom>
            <a:avLst/>
            <a:gdLst>
              <a:gd name="textAreaLeft" fmla="*/ 72720 w 1511280"/>
              <a:gd name="textAreaRight" fmla="*/ 1438560 w 1511280"/>
              <a:gd name="textAreaTop" fmla="*/ 72720 h 1125720"/>
              <a:gd name="textAreaBottom" fmla="*/ 1053000 h 1125720"/>
            </a:gdLst>
            <a:ahLst/>
            <a:rect l="textAreaLeft" t="textAreaTop" r="textAreaRight" b="textAreaBottom"/>
            <a:pathLst>
              <a:path w="28996" h="21600">
                <a:moveTo>
                  <a:pt x="0" y="0"/>
                </a:moveTo>
                <a:lnTo>
                  <a:pt x="28996" y="0"/>
                </a:lnTo>
                <a:lnTo>
                  <a:pt x="28996" y="21600"/>
                </a:lnTo>
                <a:lnTo>
                  <a:pt x="0" y="21600"/>
                </a:lnTo>
                <a:close/>
              </a:path>
              <a:path fill="lightenLess" w="28996" h="21600">
                <a:moveTo>
                  <a:pt x="0" y="0"/>
                </a:moveTo>
                <a:lnTo>
                  <a:pt x="28996" y="0"/>
                </a:lnTo>
                <a:lnTo>
                  <a:pt x="27596" y="1400"/>
                </a:lnTo>
                <a:lnTo>
                  <a:pt x="1400" y="1400"/>
                </a:lnTo>
                <a:close/>
              </a:path>
              <a:path fill="darken" w="28996" h="21600">
                <a:moveTo>
                  <a:pt x="28996" y="0"/>
                </a:moveTo>
                <a:lnTo>
                  <a:pt x="28996" y="21600"/>
                </a:lnTo>
                <a:lnTo>
                  <a:pt x="27596" y="20200"/>
                </a:lnTo>
                <a:lnTo>
                  <a:pt x="27596" y="1400"/>
                </a:lnTo>
                <a:close/>
              </a:path>
              <a:path fill="darkenLess" w="28996" h="21600">
                <a:moveTo>
                  <a:pt x="289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96" y="20200"/>
                </a:lnTo>
                <a:close/>
              </a:path>
              <a:path fill="lighten" w="289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292720" y="4941720"/>
            <a:ext cx="1511280" cy="1125720"/>
          </a:xfrm>
          <a:custGeom>
            <a:avLst/>
            <a:gdLst>
              <a:gd name="textAreaLeft" fmla="*/ 72720 w 1511280"/>
              <a:gd name="textAreaRight" fmla="*/ 1438560 w 1511280"/>
              <a:gd name="textAreaTop" fmla="*/ 72720 h 1125720"/>
              <a:gd name="textAreaBottom" fmla="*/ 1053000 h 1125720"/>
            </a:gdLst>
            <a:ahLst/>
            <a:rect l="textAreaLeft" t="textAreaTop" r="textAreaRight" b="textAreaBottom"/>
            <a:pathLst>
              <a:path w="28996" h="21600">
                <a:moveTo>
                  <a:pt x="0" y="0"/>
                </a:moveTo>
                <a:lnTo>
                  <a:pt x="28996" y="0"/>
                </a:lnTo>
                <a:lnTo>
                  <a:pt x="28996" y="21600"/>
                </a:lnTo>
                <a:lnTo>
                  <a:pt x="0" y="21600"/>
                </a:lnTo>
                <a:close/>
              </a:path>
              <a:path fill="lightenLess" w="28996" h="21600">
                <a:moveTo>
                  <a:pt x="0" y="0"/>
                </a:moveTo>
                <a:lnTo>
                  <a:pt x="28996" y="0"/>
                </a:lnTo>
                <a:lnTo>
                  <a:pt x="27596" y="1400"/>
                </a:lnTo>
                <a:lnTo>
                  <a:pt x="1400" y="1400"/>
                </a:lnTo>
                <a:close/>
              </a:path>
              <a:path fill="darken" w="28996" h="21600">
                <a:moveTo>
                  <a:pt x="28996" y="0"/>
                </a:moveTo>
                <a:lnTo>
                  <a:pt x="28996" y="21600"/>
                </a:lnTo>
                <a:lnTo>
                  <a:pt x="27596" y="20200"/>
                </a:lnTo>
                <a:lnTo>
                  <a:pt x="27596" y="1400"/>
                </a:lnTo>
                <a:close/>
              </a:path>
              <a:path fill="darkenLess" w="28996" h="21600">
                <a:moveTo>
                  <a:pt x="289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96" y="20200"/>
                </a:lnTo>
                <a:close/>
              </a:path>
              <a:path fill="lighten" w="289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4749840" cy="508608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211280" y="549000"/>
            <a:ext cx="493236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it-IT" sz="4000" spc="-1" strike="noStrike">
                <a:solidFill>
                  <a:srgbClr val="ff0000"/>
                </a:solidFill>
                <a:latin typeface="Arial"/>
              </a:rPr>
              <a:t>În junglă sunt 14</a:t>
            </a:r>
            <a:r>
              <a:rPr b="0" lang="ro-RO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0000"/>
                </a:solidFill>
                <a:latin typeface="Arial"/>
              </a:rPr>
              <a:t>maimuţe.</a:t>
            </a:r>
            <a:r>
              <a:rPr b="0" lang="ro-RO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it-IT" sz="4000" spc="-1" strike="noStrike">
                <a:solidFill>
                  <a:srgbClr val="ff0000"/>
                </a:solidFill>
                <a:latin typeface="Arial"/>
              </a:rPr>
              <a:t>Mai târziu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0000"/>
                </a:solidFill>
                <a:latin typeface="Arial"/>
              </a:rPr>
              <a:t>vin 13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it-IT" sz="4000" spc="-1" strike="noStrike">
                <a:solidFill>
                  <a:srgbClr val="ff0000"/>
                </a:solidFill>
                <a:latin typeface="Arial"/>
              </a:rPr>
              <a:t>Câte maimuţe</a:t>
            </a:r>
            <a:r>
              <a:rPr b="0" lang="ro-RO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0000"/>
                </a:solidFill>
                <a:latin typeface="Arial"/>
              </a:rPr>
              <a:t>sunt acum în junglă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" action="ppaction://hlinkshowjump?jump=lastslide"/>
          </p:cNvPr>
          <p:cNvSpPr/>
          <p:nvPr/>
        </p:nvSpPr>
        <p:spPr>
          <a:xfrm>
            <a:off x="4643280" y="4653000"/>
            <a:ext cx="1511280" cy="1125360"/>
          </a:xfrm>
          <a:custGeom>
            <a:avLst/>
            <a:gdLst>
              <a:gd name="textAreaLeft" fmla="*/ 72720 w 1511280"/>
              <a:gd name="textAreaRight" fmla="*/ 1438560 w 1511280"/>
              <a:gd name="textAreaTop" fmla="*/ 72720 h 1125360"/>
              <a:gd name="textAreaBottom" fmla="*/ 1052640 h 1125360"/>
            </a:gdLst>
            <a:ahLst/>
            <a:rect l="textAreaLeft" t="textAreaTop" r="textAreaRight" b="textAreaBottom"/>
            <a:pathLst>
              <a:path w="29005" h="21600">
                <a:moveTo>
                  <a:pt x="0" y="0"/>
                </a:moveTo>
                <a:lnTo>
                  <a:pt x="29005" y="0"/>
                </a:lnTo>
                <a:lnTo>
                  <a:pt x="29005" y="21600"/>
                </a:lnTo>
                <a:lnTo>
                  <a:pt x="0" y="21600"/>
                </a:lnTo>
                <a:close/>
              </a:path>
              <a:path fill="lightenLess" w="29005" h="21600">
                <a:moveTo>
                  <a:pt x="0" y="0"/>
                </a:moveTo>
                <a:lnTo>
                  <a:pt x="29005" y="0"/>
                </a:lnTo>
                <a:lnTo>
                  <a:pt x="27605" y="1400"/>
                </a:lnTo>
                <a:lnTo>
                  <a:pt x="1400" y="1400"/>
                </a:lnTo>
                <a:close/>
              </a:path>
              <a:path fill="darken" w="29005" h="21600">
                <a:moveTo>
                  <a:pt x="29005" y="0"/>
                </a:moveTo>
                <a:lnTo>
                  <a:pt x="29005" y="21600"/>
                </a:lnTo>
                <a:lnTo>
                  <a:pt x="27605" y="20200"/>
                </a:lnTo>
                <a:lnTo>
                  <a:pt x="27605" y="1400"/>
                </a:lnTo>
                <a:close/>
              </a:path>
              <a:path fill="darkenLess" w="29005" h="21600">
                <a:moveTo>
                  <a:pt x="290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05" y="20200"/>
                </a:lnTo>
                <a:close/>
              </a:path>
              <a:path fill="lighten" w="290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>
            <a:hlinkClick r:id="rId2" action="ppaction://hlinksldjump"/>
          </p:cNvPr>
          <p:cNvSpPr/>
          <p:nvPr/>
        </p:nvSpPr>
        <p:spPr>
          <a:xfrm>
            <a:off x="6732720" y="4653000"/>
            <a:ext cx="1511280" cy="1125360"/>
          </a:xfrm>
          <a:custGeom>
            <a:avLst/>
            <a:gdLst>
              <a:gd name="textAreaLeft" fmla="*/ 72720 w 1511280"/>
              <a:gd name="textAreaRight" fmla="*/ 1438560 w 1511280"/>
              <a:gd name="textAreaTop" fmla="*/ 72720 h 1125360"/>
              <a:gd name="textAreaBottom" fmla="*/ 1052640 h 1125360"/>
            </a:gdLst>
            <a:ahLst/>
            <a:rect l="textAreaLeft" t="textAreaTop" r="textAreaRight" b="textAreaBottom"/>
            <a:pathLst>
              <a:path w="29005" h="21600">
                <a:moveTo>
                  <a:pt x="0" y="0"/>
                </a:moveTo>
                <a:lnTo>
                  <a:pt x="29005" y="0"/>
                </a:lnTo>
                <a:lnTo>
                  <a:pt x="29005" y="21600"/>
                </a:lnTo>
                <a:lnTo>
                  <a:pt x="0" y="21600"/>
                </a:lnTo>
                <a:close/>
              </a:path>
              <a:path fill="lightenLess" w="29005" h="21600">
                <a:moveTo>
                  <a:pt x="0" y="0"/>
                </a:moveTo>
                <a:lnTo>
                  <a:pt x="29005" y="0"/>
                </a:lnTo>
                <a:lnTo>
                  <a:pt x="27605" y="1400"/>
                </a:lnTo>
                <a:lnTo>
                  <a:pt x="1400" y="1400"/>
                </a:lnTo>
                <a:close/>
              </a:path>
              <a:path fill="darken" w="29005" h="21600">
                <a:moveTo>
                  <a:pt x="29005" y="0"/>
                </a:moveTo>
                <a:lnTo>
                  <a:pt x="29005" y="21600"/>
                </a:lnTo>
                <a:lnTo>
                  <a:pt x="27605" y="20200"/>
                </a:lnTo>
                <a:lnTo>
                  <a:pt x="27605" y="1400"/>
                </a:lnTo>
                <a:close/>
              </a:path>
              <a:path fill="darkenLess" w="29005" h="21600">
                <a:moveTo>
                  <a:pt x="290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05" y="20200"/>
                </a:lnTo>
                <a:close/>
              </a:path>
              <a:path fill="lighten" w="290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5960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3640" y="380520"/>
            <a:ext cx="8591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7cc17"/>
                </a:solidFill>
                <a:latin typeface="Arial"/>
              </a:rPr>
              <a:t>    </a:t>
            </a:r>
            <a:r>
              <a:rPr b="1" lang="ro-RO" sz="4000" spc="-1" strike="noStrike">
                <a:solidFill>
                  <a:srgbClr val="00ffff"/>
                </a:solidFill>
                <a:latin typeface="Arial"/>
              </a:rPr>
              <a:t>La circ sunt 29 de porumbei. 12 dintre ei şi-au luat zborul.</a:t>
            </a:r>
            <a:br>
              <a:rPr sz="4000"/>
            </a:br>
            <a:r>
              <a:rPr b="1" lang="ro-RO" sz="4000" spc="-1" strike="noStrike">
                <a:solidFill>
                  <a:srgbClr val="00ffff"/>
                </a:solidFill>
                <a:latin typeface="Arial"/>
              </a:rPr>
              <a:t>    Câţi porumbei au rămas?</a:t>
            </a:r>
            <a:endParaRPr b="1" lang="en-US" sz="40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76" name="">
            <a:hlinkClick r:id="" action="ppaction://hlinkshowjump?jump=lastslide"/>
          </p:cNvPr>
          <p:cNvSpPr/>
          <p:nvPr/>
        </p:nvSpPr>
        <p:spPr>
          <a:xfrm>
            <a:off x="7308720" y="5373720"/>
            <a:ext cx="1511280" cy="1125360"/>
          </a:xfrm>
          <a:custGeom>
            <a:avLst/>
            <a:gdLst>
              <a:gd name="textAreaLeft" fmla="*/ 72720 w 1511280"/>
              <a:gd name="textAreaRight" fmla="*/ 1438560 w 1511280"/>
              <a:gd name="textAreaTop" fmla="*/ 72720 h 1125360"/>
              <a:gd name="textAreaBottom" fmla="*/ 1052640 h 1125360"/>
            </a:gdLst>
            <a:ahLst/>
            <a:rect l="textAreaLeft" t="textAreaTop" r="textAreaRight" b="textAreaBottom"/>
            <a:pathLst>
              <a:path w="29005" h="21600">
                <a:moveTo>
                  <a:pt x="0" y="0"/>
                </a:moveTo>
                <a:lnTo>
                  <a:pt x="29005" y="0"/>
                </a:lnTo>
                <a:lnTo>
                  <a:pt x="29005" y="21600"/>
                </a:lnTo>
                <a:lnTo>
                  <a:pt x="0" y="21600"/>
                </a:lnTo>
                <a:close/>
              </a:path>
              <a:path fill="lightenLess" w="29005" h="21600">
                <a:moveTo>
                  <a:pt x="0" y="0"/>
                </a:moveTo>
                <a:lnTo>
                  <a:pt x="29005" y="0"/>
                </a:lnTo>
                <a:lnTo>
                  <a:pt x="27605" y="1400"/>
                </a:lnTo>
                <a:lnTo>
                  <a:pt x="1400" y="1400"/>
                </a:lnTo>
                <a:close/>
              </a:path>
              <a:path fill="darken" w="29005" h="21600">
                <a:moveTo>
                  <a:pt x="29005" y="0"/>
                </a:moveTo>
                <a:lnTo>
                  <a:pt x="29005" y="21600"/>
                </a:lnTo>
                <a:lnTo>
                  <a:pt x="27605" y="20200"/>
                </a:lnTo>
                <a:lnTo>
                  <a:pt x="27605" y="1400"/>
                </a:lnTo>
                <a:close/>
              </a:path>
              <a:path fill="darkenLess" w="29005" h="21600">
                <a:moveTo>
                  <a:pt x="290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05" y="20200"/>
                </a:lnTo>
                <a:close/>
              </a:path>
              <a:path fill="lighten" w="290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>
            <a:hlinkClick r:id="rId2" action="ppaction://hlinksldjump"/>
          </p:cNvPr>
          <p:cNvSpPr/>
          <p:nvPr/>
        </p:nvSpPr>
        <p:spPr>
          <a:xfrm>
            <a:off x="5148360" y="5373720"/>
            <a:ext cx="1511280" cy="1125360"/>
          </a:xfrm>
          <a:custGeom>
            <a:avLst/>
            <a:gdLst>
              <a:gd name="textAreaLeft" fmla="*/ 72720 w 1511280"/>
              <a:gd name="textAreaRight" fmla="*/ 1438560 w 1511280"/>
              <a:gd name="textAreaTop" fmla="*/ 72720 h 1125360"/>
              <a:gd name="textAreaBottom" fmla="*/ 1052640 h 1125360"/>
            </a:gdLst>
            <a:ahLst/>
            <a:rect l="textAreaLeft" t="textAreaTop" r="textAreaRight" b="textAreaBottom"/>
            <a:pathLst>
              <a:path w="29005" h="21600">
                <a:moveTo>
                  <a:pt x="0" y="0"/>
                </a:moveTo>
                <a:lnTo>
                  <a:pt x="29005" y="0"/>
                </a:lnTo>
                <a:lnTo>
                  <a:pt x="29005" y="21600"/>
                </a:lnTo>
                <a:lnTo>
                  <a:pt x="0" y="21600"/>
                </a:lnTo>
                <a:close/>
              </a:path>
              <a:path fill="lightenLess" w="29005" h="21600">
                <a:moveTo>
                  <a:pt x="0" y="0"/>
                </a:moveTo>
                <a:lnTo>
                  <a:pt x="29005" y="0"/>
                </a:lnTo>
                <a:lnTo>
                  <a:pt x="27605" y="1400"/>
                </a:lnTo>
                <a:lnTo>
                  <a:pt x="1400" y="1400"/>
                </a:lnTo>
                <a:close/>
              </a:path>
              <a:path fill="darken" w="29005" h="21600">
                <a:moveTo>
                  <a:pt x="29005" y="0"/>
                </a:moveTo>
                <a:lnTo>
                  <a:pt x="29005" y="21600"/>
                </a:lnTo>
                <a:lnTo>
                  <a:pt x="27605" y="20200"/>
                </a:lnTo>
                <a:lnTo>
                  <a:pt x="27605" y="1400"/>
                </a:lnTo>
                <a:close/>
              </a:path>
              <a:path fill="darkenLess" w="29005" h="21600">
                <a:moveTo>
                  <a:pt x="290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605" y="20200"/>
                </a:lnTo>
                <a:close/>
              </a:path>
              <a:path fill="lighten" w="290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-324000" y="-976320"/>
            <a:ext cx="9753840" cy="815040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1128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600" spc="-1" strike="noStrike">
                <a:solidFill>
                  <a:srgbClr val="ffffff"/>
                </a:solidFill>
                <a:latin typeface="Arial"/>
              </a:rPr>
              <a:t>Ce bine e cu mami!</a:t>
            </a:r>
            <a:endParaRPr b="1" lang="en-US" sz="6600" spc="-1" strike="noStrike">
              <a:solidFill>
                <a:srgbClr val="f7cc1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ff"/>
                </a:solidFill>
                <a:latin typeface="Arial"/>
              </a:rPr>
              <a:t>Abia aştept să fiu în braţele mamei!...</a:t>
            </a:r>
            <a:endParaRPr b="1" lang="en-US" sz="60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82" name="">
            <a:hlinkClick r:id="" action="ppaction://hlinkshowjump?jump=previousslide"/>
          </p:cNvPr>
          <p:cNvSpPr/>
          <p:nvPr/>
        </p:nvSpPr>
        <p:spPr>
          <a:xfrm>
            <a:off x="6659640" y="5373720"/>
            <a:ext cx="1800000" cy="1008000"/>
          </a:xfrm>
          <a:custGeom>
            <a:avLst/>
            <a:gdLst>
              <a:gd name="textAreaLeft" fmla="*/ 65160 w 1800000"/>
              <a:gd name="textAreaRight" fmla="*/ 1734840 w 1800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38565" h="21600">
                <a:moveTo>
                  <a:pt x="0" y="0"/>
                </a:moveTo>
                <a:lnTo>
                  <a:pt x="38565" y="0"/>
                </a:lnTo>
                <a:lnTo>
                  <a:pt x="38565" y="21600"/>
                </a:lnTo>
                <a:lnTo>
                  <a:pt x="0" y="21600"/>
                </a:lnTo>
                <a:close/>
              </a:path>
              <a:path fill="lightenLess" w="38565" h="21600">
                <a:moveTo>
                  <a:pt x="0" y="0"/>
                </a:moveTo>
                <a:lnTo>
                  <a:pt x="38565" y="0"/>
                </a:lnTo>
                <a:lnTo>
                  <a:pt x="37165" y="1400"/>
                </a:lnTo>
                <a:lnTo>
                  <a:pt x="1400" y="1400"/>
                </a:lnTo>
                <a:close/>
              </a:path>
              <a:path fill="darken" w="38565" h="21600">
                <a:moveTo>
                  <a:pt x="38565" y="0"/>
                </a:moveTo>
                <a:lnTo>
                  <a:pt x="38565" y="21600"/>
                </a:lnTo>
                <a:lnTo>
                  <a:pt x="37165" y="20200"/>
                </a:lnTo>
                <a:lnTo>
                  <a:pt x="37165" y="1400"/>
                </a:lnTo>
                <a:close/>
              </a:path>
              <a:path fill="darkenLess" w="38565" h="21600">
                <a:moveTo>
                  <a:pt x="38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165" y="20200"/>
                </a:lnTo>
                <a:close/>
              </a:path>
              <a:path fill="lighten" w="38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565" h="21600">
                <a:moveTo>
                  <a:pt x="12276" y="7493"/>
                </a:moveTo>
                <a:lnTo>
                  <a:pt x="15784" y="7493"/>
                </a:lnTo>
                <a:lnTo>
                  <a:pt x="15784" y="12828"/>
                </a:lnTo>
                <a:cubicBezTo>
                  <a:pt x="15784" y="13751"/>
                  <a:pt x="16585" y="14482"/>
                  <a:pt x="17620" y="14482"/>
                </a:cubicBezTo>
                <a:lnTo>
                  <a:pt x="19283" y="14482"/>
                </a:lnTo>
                <a:cubicBezTo>
                  <a:pt x="20318" y="14482"/>
                  <a:pt x="21119" y="13751"/>
                  <a:pt x="21119" y="12828"/>
                </a:cubicBezTo>
                <a:lnTo>
                  <a:pt x="21119" y="7493"/>
                </a:lnTo>
                <a:lnTo>
                  <a:pt x="19283" y="7493"/>
                </a:lnTo>
                <a:lnTo>
                  <a:pt x="22790" y="3985"/>
                </a:lnTo>
                <a:lnTo>
                  <a:pt x="26463" y="7493"/>
                </a:lnTo>
                <a:lnTo>
                  <a:pt x="24627" y="7493"/>
                </a:lnTo>
                <a:lnTo>
                  <a:pt x="24627" y="12828"/>
                </a:lnTo>
                <a:cubicBezTo>
                  <a:pt x="24627" y="15596"/>
                  <a:pt x="22050" y="18155"/>
                  <a:pt x="19283" y="18155"/>
                </a:cubicBezTo>
                <a:lnTo>
                  <a:pt x="17620" y="18155"/>
                </a:lnTo>
                <a:cubicBezTo>
                  <a:pt x="14852" y="18155"/>
                  <a:pt x="12276" y="15596"/>
                  <a:pt x="12276" y="12828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600" spc="-1" strike="noStrike">
                <a:solidFill>
                  <a:srgbClr val="00ff00"/>
                </a:solidFill>
                <a:latin typeface="Arial"/>
              </a:rPr>
              <a:t>Te rog, mai încearcă!</a:t>
            </a:r>
            <a:endParaRPr b="1" lang="en-US" sz="66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85" name="">
            <a:hlinkClick r:id="" action="ppaction://hlinkshowjump?jump=previousslide"/>
          </p:cNvPr>
          <p:cNvSpPr/>
          <p:nvPr/>
        </p:nvSpPr>
        <p:spPr>
          <a:xfrm>
            <a:off x="6804000" y="5300640"/>
            <a:ext cx="1800360" cy="1008000"/>
          </a:xfrm>
          <a:custGeom>
            <a:avLst/>
            <a:gdLst>
              <a:gd name="textAreaLeft" fmla="*/ 65160 w 1800360"/>
              <a:gd name="textAreaRight" fmla="*/ 1735200 w 180036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38573" h="21600">
                <a:moveTo>
                  <a:pt x="0" y="0"/>
                </a:moveTo>
                <a:lnTo>
                  <a:pt x="38573" y="0"/>
                </a:lnTo>
                <a:lnTo>
                  <a:pt x="38573" y="21600"/>
                </a:lnTo>
                <a:lnTo>
                  <a:pt x="0" y="21600"/>
                </a:lnTo>
                <a:close/>
              </a:path>
              <a:path fill="lightenLess" w="38573" h="21600">
                <a:moveTo>
                  <a:pt x="0" y="0"/>
                </a:moveTo>
                <a:lnTo>
                  <a:pt x="38573" y="0"/>
                </a:lnTo>
                <a:lnTo>
                  <a:pt x="37173" y="1400"/>
                </a:lnTo>
                <a:lnTo>
                  <a:pt x="1400" y="1400"/>
                </a:lnTo>
                <a:close/>
              </a:path>
              <a:path fill="darken" w="38573" h="21600">
                <a:moveTo>
                  <a:pt x="38573" y="0"/>
                </a:moveTo>
                <a:lnTo>
                  <a:pt x="38573" y="21600"/>
                </a:lnTo>
                <a:lnTo>
                  <a:pt x="37173" y="20200"/>
                </a:lnTo>
                <a:lnTo>
                  <a:pt x="37173" y="1400"/>
                </a:lnTo>
                <a:close/>
              </a:path>
              <a:path fill="darkenLess" w="38573" h="21600">
                <a:moveTo>
                  <a:pt x="385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173" y="20200"/>
                </a:lnTo>
                <a:close/>
              </a:path>
              <a:path fill="lighten" w="385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573" h="21600">
                <a:moveTo>
                  <a:pt x="12280" y="7493"/>
                </a:moveTo>
                <a:lnTo>
                  <a:pt x="15788" y="7493"/>
                </a:lnTo>
                <a:lnTo>
                  <a:pt x="15788" y="12828"/>
                </a:lnTo>
                <a:cubicBezTo>
                  <a:pt x="15788" y="13751"/>
                  <a:pt x="16588" y="14482"/>
                  <a:pt x="17624" y="14482"/>
                </a:cubicBezTo>
                <a:lnTo>
                  <a:pt x="19287" y="14482"/>
                </a:lnTo>
                <a:cubicBezTo>
                  <a:pt x="20322" y="14482"/>
                  <a:pt x="21123" y="13751"/>
                  <a:pt x="21123" y="12828"/>
                </a:cubicBezTo>
                <a:lnTo>
                  <a:pt x="21123" y="7493"/>
                </a:lnTo>
                <a:lnTo>
                  <a:pt x="19287" y="7493"/>
                </a:lnTo>
                <a:lnTo>
                  <a:pt x="22794" y="3985"/>
                </a:lnTo>
                <a:lnTo>
                  <a:pt x="26467" y="7493"/>
                </a:lnTo>
                <a:lnTo>
                  <a:pt x="24631" y="7493"/>
                </a:lnTo>
                <a:lnTo>
                  <a:pt x="24631" y="12828"/>
                </a:lnTo>
                <a:cubicBezTo>
                  <a:pt x="24631" y="15596"/>
                  <a:pt x="22054" y="18155"/>
                  <a:pt x="19287" y="18155"/>
                </a:cubicBezTo>
                <a:lnTo>
                  <a:pt x="17624" y="18155"/>
                </a:lnTo>
                <a:cubicBezTo>
                  <a:pt x="14856" y="18155"/>
                  <a:pt x="12280" y="15596"/>
                  <a:pt x="12280" y="12828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-231840"/>
            <a:ext cx="9144000" cy="70898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900000" y="404640"/>
            <a:ext cx="324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ffff00"/>
                </a:solidFill>
                <a:latin typeface="Arial"/>
              </a:rPr>
              <a:t>13 + 16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>
            <a:hlinkClick r:id="" action="ppaction://hlinkshowjump?jump=lastslide"/>
          </p:cNvPr>
          <p:cNvSpPr/>
          <p:nvPr/>
        </p:nvSpPr>
        <p:spPr>
          <a:xfrm>
            <a:off x="4427640" y="333360"/>
            <a:ext cx="1511280" cy="1125720"/>
          </a:xfrm>
          <a:custGeom>
            <a:avLst/>
            <a:gdLst>
              <a:gd name="textAreaLeft" fmla="*/ 72720 w 1511280"/>
              <a:gd name="textAreaRight" fmla="*/ 1438560 w 1511280"/>
              <a:gd name="textAreaTop" fmla="*/ 72720 h 1125720"/>
              <a:gd name="textAreaBottom" fmla="*/ 1053000 h 1125720"/>
            </a:gdLst>
            <a:ahLst/>
            <a:rect l="textAreaLeft" t="textAreaTop" r="textAreaRight" b="textAreaBottom"/>
            <a:pathLst>
              <a:path w="28996" h="21600">
                <a:moveTo>
                  <a:pt x="0" y="0"/>
                </a:moveTo>
                <a:lnTo>
                  <a:pt x="28996" y="0"/>
                </a:lnTo>
                <a:lnTo>
                  <a:pt x="28996" y="21600"/>
                </a:lnTo>
                <a:lnTo>
                  <a:pt x="0" y="21600"/>
                </a:lnTo>
                <a:close/>
              </a:path>
              <a:path fill="lightenLess" w="28996" h="21600">
                <a:moveTo>
                  <a:pt x="0" y="0"/>
                </a:moveTo>
                <a:lnTo>
                  <a:pt x="28996" y="0"/>
                </a:lnTo>
                <a:lnTo>
                  <a:pt x="27596" y="1400"/>
                </a:lnTo>
                <a:lnTo>
                  <a:pt x="1400" y="1400"/>
                </a:lnTo>
                <a:close/>
              </a:path>
              <a:path fill="darken" w="28996" h="21600">
                <a:moveTo>
                  <a:pt x="28996" y="0"/>
                </a:moveTo>
                <a:lnTo>
                  <a:pt x="28996" y="21600"/>
                </a:lnTo>
                <a:lnTo>
                  <a:pt x="27596" y="20200"/>
                </a:lnTo>
                <a:lnTo>
                  <a:pt x="27596" y="1400"/>
                </a:lnTo>
                <a:close/>
              </a:path>
              <a:path fill="darkenLess" w="28996" h="21600">
                <a:moveTo>
                  <a:pt x="289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96" y="20200"/>
                </a:lnTo>
                <a:close/>
              </a:path>
              <a:path fill="lighten" w="289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ff"/>
                </a:solidFill>
                <a:latin typeface="Arial"/>
              </a:rPr>
              <a:t>19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6156360" y="333360"/>
            <a:ext cx="1511280" cy="1125720"/>
          </a:xfrm>
          <a:custGeom>
            <a:avLst/>
            <a:gdLst>
              <a:gd name="textAreaLeft" fmla="*/ 72720 w 1511280"/>
              <a:gd name="textAreaRight" fmla="*/ 1438560 w 1511280"/>
              <a:gd name="textAreaTop" fmla="*/ 72720 h 1125720"/>
              <a:gd name="textAreaBottom" fmla="*/ 1053000 h 1125720"/>
            </a:gdLst>
            <a:ahLst/>
            <a:rect l="textAreaLeft" t="textAreaTop" r="textAreaRight" b="textAreaBottom"/>
            <a:pathLst>
              <a:path w="28996" h="21600">
                <a:moveTo>
                  <a:pt x="0" y="0"/>
                </a:moveTo>
                <a:lnTo>
                  <a:pt x="28996" y="0"/>
                </a:lnTo>
                <a:lnTo>
                  <a:pt x="28996" y="21600"/>
                </a:lnTo>
                <a:lnTo>
                  <a:pt x="0" y="21600"/>
                </a:lnTo>
                <a:close/>
              </a:path>
              <a:path fill="lightenLess" w="28996" h="21600">
                <a:moveTo>
                  <a:pt x="0" y="0"/>
                </a:moveTo>
                <a:lnTo>
                  <a:pt x="28996" y="0"/>
                </a:lnTo>
                <a:lnTo>
                  <a:pt x="27596" y="1400"/>
                </a:lnTo>
                <a:lnTo>
                  <a:pt x="1400" y="1400"/>
                </a:lnTo>
                <a:close/>
              </a:path>
              <a:path fill="darken" w="28996" h="21600">
                <a:moveTo>
                  <a:pt x="28996" y="0"/>
                </a:moveTo>
                <a:lnTo>
                  <a:pt x="28996" y="21600"/>
                </a:lnTo>
                <a:lnTo>
                  <a:pt x="27596" y="20200"/>
                </a:lnTo>
                <a:lnTo>
                  <a:pt x="27596" y="1400"/>
                </a:lnTo>
                <a:close/>
              </a:path>
              <a:path fill="darkenLess" w="28996" h="21600">
                <a:moveTo>
                  <a:pt x="289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96" y="20200"/>
                </a:lnTo>
                <a:close/>
              </a:path>
              <a:path fill="lighten" w="289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ff"/>
                </a:solidFill>
                <a:latin typeface="Arial"/>
              </a:rPr>
              <a:t>29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-231840"/>
            <a:ext cx="9144000" cy="70898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116000" y="404640"/>
            <a:ext cx="324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ffff00"/>
                </a:solidFill>
                <a:latin typeface="Arial"/>
              </a:rPr>
              <a:t>15 + 12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>
            <a:hlinkClick r:id="" action="ppaction://hlinkshowjump?jump=lastslide"/>
          </p:cNvPr>
          <p:cNvSpPr/>
          <p:nvPr/>
        </p:nvSpPr>
        <p:spPr>
          <a:xfrm>
            <a:off x="4427640" y="333360"/>
            <a:ext cx="1511280" cy="1125720"/>
          </a:xfrm>
          <a:custGeom>
            <a:avLst/>
            <a:gdLst>
              <a:gd name="textAreaLeft" fmla="*/ 72720 w 1511280"/>
              <a:gd name="textAreaRight" fmla="*/ 1438560 w 1511280"/>
              <a:gd name="textAreaTop" fmla="*/ 72720 h 1125720"/>
              <a:gd name="textAreaBottom" fmla="*/ 1053000 h 1125720"/>
            </a:gdLst>
            <a:ahLst/>
            <a:rect l="textAreaLeft" t="textAreaTop" r="textAreaRight" b="textAreaBottom"/>
            <a:pathLst>
              <a:path w="28996" h="21600">
                <a:moveTo>
                  <a:pt x="0" y="0"/>
                </a:moveTo>
                <a:lnTo>
                  <a:pt x="28996" y="0"/>
                </a:lnTo>
                <a:lnTo>
                  <a:pt x="28996" y="21600"/>
                </a:lnTo>
                <a:lnTo>
                  <a:pt x="0" y="21600"/>
                </a:lnTo>
                <a:close/>
              </a:path>
              <a:path fill="lightenLess" w="28996" h="21600">
                <a:moveTo>
                  <a:pt x="0" y="0"/>
                </a:moveTo>
                <a:lnTo>
                  <a:pt x="28996" y="0"/>
                </a:lnTo>
                <a:lnTo>
                  <a:pt x="27596" y="1400"/>
                </a:lnTo>
                <a:lnTo>
                  <a:pt x="1400" y="1400"/>
                </a:lnTo>
                <a:close/>
              </a:path>
              <a:path fill="darken" w="28996" h="21600">
                <a:moveTo>
                  <a:pt x="28996" y="0"/>
                </a:moveTo>
                <a:lnTo>
                  <a:pt x="28996" y="21600"/>
                </a:lnTo>
                <a:lnTo>
                  <a:pt x="27596" y="20200"/>
                </a:lnTo>
                <a:lnTo>
                  <a:pt x="27596" y="1400"/>
                </a:lnTo>
                <a:close/>
              </a:path>
              <a:path fill="darkenLess" w="28996" h="21600">
                <a:moveTo>
                  <a:pt x="289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96" y="20200"/>
                </a:lnTo>
                <a:close/>
              </a:path>
              <a:path fill="lighten" w="289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6156360" y="333360"/>
            <a:ext cx="1511280" cy="1125720"/>
          </a:xfrm>
          <a:custGeom>
            <a:avLst/>
            <a:gdLst>
              <a:gd name="textAreaLeft" fmla="*/ 72720 w 1511280"/>
              <a:gd name="textAreaRight" fmla="*/ 1438560 w 1511280"/>
              <a:gd name="textAreaTop" fmla="*/ 72720 h 1125720"/>
              <a:gd name="textAreaBottom" fmla="*/ 1053000 h 1125720"/>
            </a:gdLst>
            <a:ahLst/>
            <a:rect l="textAreaLeft" t="textAreaTop" r="textAreaRight" b="textAreaBottom"/>
            <a:pathLst>
              <a:path w="28996" h="21600">
                <a:moveTo>
                  <a:pt x="0" y="0"/>
                </a:moveTo>
                <a:lnTo>
                  <a:pt x="28996" y="0"/>
                </a:lnTo>
                <a:lnTo>
                  <a:pt x="28996" y="21600"/>
                </a:lnTo>
                <a:lnTo>
                  <a:pt x="0" y="21600"/>
                </a:lnTo>
                <a:close/>
              </a:path>
              <a:path fill="lightenLess" w="28996" h="21600">
                <a:moveTo>
                  <a:pt x="0" y="0"/>
                </a:moveTo>
                <a:lnTo>
                  <a:pt x="28996" y="0"/>
                </a:lnTo>
                <a:lnTo>
                  <a:pt x="27596" y="1400"/>
                </a:lnTo>
                <a:lnTo>
                  <a:pt x="1400" y="1400"/>
                </a:lnTo>
                <a:close/>
              </a:path>
              <a:path fill="darken" w="28996" h="21600">
                <a:moveTo>
                  <a:pt x="28996" y="0"/>
                </a:moveTo>
                <a:lnTo>
                  <a:pt x="28996" y="21600"/>
                </a:lnTo>
                <a:lnTo>
                  <a:pt x="27596" y="20200"/>
                </a:lnTo>
                <a:lnTo>
                  <a:pt x="27596" y="1400"/>
                </a:lnTo>
                <a:close/>
              </a:path>
              <a:path fill="darkenLess" w="28996" h="21600">
                <a:moveTo>
                  <a:pt x="289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96" y="20200"/>
                </a:lnTo>
                <a:close/>
              </a:path>
              <a:path fill="lighten" w="289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-231840"/>
            <a:ext cx="9144000" cy="70898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900000" y="404640"/>
            <a:ext cx="324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ffff00"/>
                </a:solidFill>
                <a:latin typeface="Arial"/>
              </a:rPr>
              <a:t>27 - 16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>
            <a:hlinkClick r:id="" action="ppaction://hlinkshowjump?jump=lastslide"/>
          </p:cNvPr>
          <p:cNvSpPr/>
          <p:nvPr/>
        </p:nvSpPr>
        <p:spPr>
          <a:xfrm>
            <a:off x="4427640" y="333360"/>
            <a:ext cx="1511280" cy="1125720"/>
          </a:xfrm>
          <a:custGeom>
            <a:avLst/>
            <a:gdLst>
              <a:gd name="textAreaLeft" fmla="*/ 72720 w 1511280"/>
              <a:gd name="textAreaRight" fmla="*/ 1438560 w 1511280"/>
              <a:gd name="textAreaTop" fmla="*/ 72720 h 1125720"/>
              <a:gd name="textAreaBottom" fmla="*/ 1053000 h 1125720"/>
            </a:gdLst>
            <a:ahLst/>
            <a:rect l="textAreaLeft" t="textAreaTop" r="textAreaRight" b="textAreaBottom"/>
            <a:pathLst>
              <a:path w="28996" h="21600">
                <a:moveTo>
                  <a:pt x="0" y="0"/>
                </a:moveTo>
                <a:lnTo>
                  <a:pt x="28996" y="0"/>
                </a:lnTo>
                <a:lnTo>
                  <a:pt x="28996" y="21600"/>
                </a:lnTo>
                <a:lnTo>
                  <a:pt x="0" y="21600"/>
                </a:lnTo>
                <a:close/>
              </a:path>
              <a:path fill="lightenLess" w="28996" h="21600">
                <a:moveTo>
                  <a:pt x="0" y="0"/>
                </a:moveTo>
                <a:lnTo>
                  <a:pt x="28996" y="0"/>
                </a:lnTo>
                <a:lnTo>
                  <a:pt x="27596" y="1400"/>
                </a:lnTo>
                <a:lnTo>
                  <a:pt x="1400" y="1400"/>
                </a:lnTo>
                <a:close/>
              </a:path>
              <a:path fill="darken" w="28996" h="21600">
                <a:moveTo>
                  <a:pt x="28996" y="0"/>
                </a:moveTo>
                <a:lnTo>
                  <a:pt x="28996" y="21600"/>
                </a:lnTo>
                <a:lnTo>
                  <a:pt x="27596" y="20200"/>
                </a:lnTo>
                <a:lnTo>
                  <a:pt x="27596" y="1400"/>
                </a:lnTo>
                <a:close/>
              </a:path>
              <a:path fill="darkenLess" w="28996" h="21600">
                <a:moveTo>
                  <a:pt x="289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96" y="20200"/>
                </a:lnTo>
                <a:close/>
              </a:path>
              <a:path fill="lighten" w="289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156360" y="333360"/>
            <a:ext cx="1511280" cy="1125720"/>
          </a:xfrm>
          <a:custGeom>
            <a:avLst/>
            <a:gdLst>
              <a:gd name="textAreaLeft" fmla="*/ 72720 w 1511280"/>
              <a:gd name="textAreaRight" fmla="*/ 1438560 w 1511280"/>
              <a:gd name="textAreaTop" fmla="*/ 72720 h 1125720"/>
              <a:gd name="textAreaBottom" fmla="*/ 1053000 h 1125720"/>
            </a:gdLst>
            <a:ahLst/>
            <a:rect l="textAreaLeft" t="textAreaTop" r="textAreaRight" b="textAreaBottom"/>
            <a:pathLst>
              <a:path w="28996" h="21600">
                <a:moveTo>
                  <a:pt x="0" y="0"/>
                </a:moveTo>
                <a:lnTo>
                  <a:pt x="28996" y="0"/>
                </a:lnTo>
                <a:lnTo>
                  <a:pt x="28996" y="21600"/>
                </a:lnTo>
                <a:lnTo>
                  <a:pt x="0" y="21600"/>
                </a:lnTo>
                <a:close/>
              </a:path>
              <a:path fill="lightenLess" w="28996" h="21600">
                <a:moveTo>
                  <a:pt x="0" y="0"/>
                </a:moveTo>
                <a:lnTo>
                  <a:pt x="28996" y="0"/>
                </a:lnTo>
                <a:lnTo>
                  <a:pt x="27596" y="1400"/>
                </a:lnTo>
                <a:lnTo>
                  <a:pt x="1400" y="1400"/>
                </a:lnTo>
                <a:close/>
              </a:path>
              <a:path fill="darken" w="28996" h="21600">
                <a:moveTo>
                  <a:pt x="28996" y="0"/>
                </a:moveTo>
                <a:lnTo>
                  <a:pt x="28996" y="21600"/>
                </a:lnTo>
                <a:lnTo>
                  <a:pt x="27596" y="20200"/>
                </a:lnTo>
                <a:lnTo>
                  <a:pt x="27596" y="1400"/>
                </a:lnTo>
                <a:close/>
              </a:path>
              <a:path fill="darkenLess" w="28996" h="21600">
                <a:moveTo>
                  <a:pt x="289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96" y="20200"/>
                </a:lnTo>
                <a:close/>
              </a:path>
              <a:path fill="lighten" w="289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-231840"/>
            <a:ext cx="9144000" cy="70898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258920" y="476280"/>
            <a:ext cx="324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ffff00"/>
                </a:solidFill>
                <a:latin typeface="Arial"/>
              </a:rPr>
              <a:t>29 - 23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>
            <a:hlinkClick r:id="" action="ppaction://hlinkshowjump?jump=lastslide"/>
          </p:cNvPr>
          <p:cNvSpPr/>
          <p:nvPr/>
        </p:nvSpPr>
        <p:spPr>
          <a:xfrm>
            <a:off x="6948360" y="333360"/>
            <a:ext cx="1511280" cy="1125720"/>
          </a:xfrm>
          <a:custGeom>
            <a:avLst/>
            <a:gdLst>
              <a:gd name="textAreaLeft" fmla="*/ 72720 w 1511280"/>
              <a:gd name="textAreaRight" fmla="*/ 1438560 w 1511280"/>
              <a:gd name="textAreaTop" fmla="*/ 72720 h 1125720"/>
              <a:gd name="textAreaBottom" fmla="*/ 1053000 h 1125720"/>
            </a:gdLst>
            <a:ahLst/>
            <a:rect l="textAreaLeft" t="textAreaTop" r="textAreaRight" b="textAreaBottom"/>
            <a:pathLst>
              <a:path w="28996" h="21600">
                <a:moveTo>
                  <a:pt x="0" y="0"/>
                </a:moveTo>
                <a:lnTo>
                  <a:pt x="28996" y="0"/>
                </a:lnTo>
                <a:lnTo>
                  <a:pt x="28996" y="21600"/>
                </a:lnTo>
                <a:lnTo>
                  <a:pt x="0" y="21600"/>
                </a:lnTo>
                <a:close/>
              </a:path>
              <a:path fill="lightenLess" w="28996" h="21600">
                <a:moveTo>
                  <a:pt x="0" y="0"/>
                </a:moveTo>
                <a:lnTo>
                  <a:pt x="28996" y="0"/>
                </a:lnTo>
                <a:lnTo>
                  <a:pt x="27596" y="1400"/>
                </a:lnTo>
                <a:lnTo>
                  <a:pt x="1400" y="1400"/>
                </a:lnTo>
                <a:close/>
              </a:path>
              <a:path fill="darken" w="28996" h="21600">
                <a:moveTo>
                  <a:pt x="28996" y="0"/>
                </a:moveTo>
                <a:lnTo>
                  <a:pt x="28996" y="21600"/>
                </a:lnTo>
                <a:lnTo>
                  <a:pt x="27596" y="20200"/>
                </a:lnTo>
                <a:lnTo>
                  <a:pt x="27596" y="1400"/>
                </a:lnTo>
                <a:close/>
              </a:path>
              <a:path fill="darkenLess" w="28996" h="21600">
                <a:moveTo>
                  <a:pt x="289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96" y="20200"/>
                </a:lnTo>
                <a:close/>
              </a:path>
              <a:path fill="lighten" w="289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859280" y="333360"/>
            <a:ext cx="1511280" cy="1125720"/>
          </a:xfrm>
          <a:custGeom>
            <a:avLst/>
            <a:gdLst>
              <a:gd name="textAreaLeft" fmla="*/ 72720 w 1511280"/>
              <a:gd name="textAreaRight" fmla="*/ 1438560 w 1511280"/>
              <a:gd name="textAreaTop" fmla="*/ 72720 h 1125720"/>
              <a:gd name="textAreaBottom" fmla="*/ 1053000 h 1125720"/>
            </a:gdLst>
            <a:ahLst/>
            <a:rect l="textAreaLeft" t="textAreaTop" r="textAreaRight" b="textAreaBottom"/>
            <a:pathLst>
              <a:path w="28996" h="21600">
                <a:moveTo>
                  <a:pt x="0" y="0"/>
                </a:moveTo>
                <a:lnTo>
                  <a:pt x="28996" y="0"/>
                </a:lnTo>
                <a:lnTo>
                  <a:pt x="28996" y="21600"/>
                </a:lnTo>
                <a:lnTo>
                  <a:pt x="0" y="21600"/>
                </a:lnTo>
                <a:close/>
              </a:path>
              <a:path fill="lightenLess" w="28996" h="21600">
                <a:moveTo>
                  <a:pt x="0" y="0"/>
                </a:moveTo>
                <a:lnTo>
                  <a:pt x="28996" y="0"/>
                </a:lnTo>
                <a:lnTo>
                  <a:pt x="27596" y="1400"/>
                </a:lnTo>
                <a:lnTo>
                  <a:pt x="1400" y="1400"/>
                </a:lnTo>
                <a:close/>
              </a:path>
              <a:path fill="darken" w="28996" h="21600">
                <a:moveTo>
                  <a:pt x="28996" y="0"/>
                </a:moveTo>
                <a:lnTo>
                  <a:pt x="28996" y="21600"/>
                </a:lnTo>
                <a:lnTo>
                  <a:pt x="27596" y="20200"/>
                </a:lnTo>
                <a:lnTo>
                  <a:pt x="27596" y="1400"/>
                </a:lnTo>
                <a:close/>
              </a:path>
              <a:path fill="darkenLess" w="28996" h="21600">
                <a:moveTo>
                  <a:pt x="289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96" y="20200"/>
                </a:lnTo>
                <a:close/>
              </a:path>
              <a:path fill="lighten" w="289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-231840"/>
            <a:ext cx="9144000" cy="70898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68360" y="404640"/>
            <a:ext cx="36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ffff00"/>
                </a:solidFill>
                <a:latin typeface="Arial"/>
              </a:rPr>
              <a:t>11+18- 4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>
            <a:hlinkClick r:id="" action="ppaction://hlinkshowjump?jump=lastslide"/>
          </p:cNvPr>
          <p:cNvSpPr/>
          <p:nvPr/>
        </p:nvSpPr>
        <p:spPr>
          <a:xfrm>
            <a:off x="4427640" y="333360"/>
            <a:ext cx="1511280" cy="1125720"/>
          </a:xfrm>
          <a:custGeom>
            <a:avLst/>
            <a:gdLst>
              <a:gd name="textAreaLeft" fmla="*/ 72720 w 1511280"/>
              <a:gd name="textAreaRight" fmla="*/ 1438560 w 1511280"/>
              <a:gd name="textAreaTop" fmla="*/ 72720 h 1125720"/>
              <a:gd name="textAreaBottom" fmla="*/ 1053000 h 1125720"/>
            </a:gdLst>
            <a:ahLst/>
            <a:rect l="textAreaLeft" t="textAreaTop" r="textAreaRight" b="textAreaBottom"/>
            <a:pathLst>
              <a:path w="28996" h="21600">
                <a:moveTo>
                  <a:pt x="0" y="0"/>
                </a:moveTo>
                <a:lnTo>
                  <a:pt x="28996" y="0"/>
                </a:lnTo>
                <a:lnTo>
                  <a:pt x="28996" y="21600"/>
                </a:lnTo>
                <a:lnTo>
                  <a:pt x="0" y="21600"/>
                </a:lnTo>
                <a:close/>
              </a:path>
              <a:path fill="lightenLess" w="28996" h="21600">
                <a:moveTo>
                  <a:pt x="0" y="0"/>
                </a:moveTo>
                <a:lnTo>
                  <a:pt x="28996" y="0"/>
                </a:lnTo>
                <a:lnTo>
                  <a:pt x="27596" y="1400"/>
                </a:lnTo>
                <a:lnTo>
                  <a:pt x="1400" y="1400"/>
                </a:lnTo>
                <a:close/>
              </a:path>
              <a:path fill="darken" w="28996" h="21600">
                <a:moveTo>
                  <a:pt x="28996" y="0"/>
                </a:moveTo>
                <a:lnTo>
                  <a:pt x="28996" y="21600"/>
                </a:lnTo>
                <a:lnTo>
                  <a:pt x="27596" y="20200"/>
                </a:lnTo>
                <a:lnTo>
                  <a:pt x="27596" y="1400"/>
                </a:lnTo>
                <a:close/>
              </a:path>
              <a:path fill="darkenLess" w="28996" h="21600">
                <a:moveTo>
                  <a:pt x="289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96" y="20200"/>
                </a:lnTo>
                <a:close/>
              </a:path>
              <a:path fill="lighten" w="289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>
            <a:hlinkClick r:id="rId2" action="ppaction://hlinksldjump"/>
          </p:cNvPr>
          <p:cNvSpPr/>
          <p:nvPr/>
        </p:nvSpPr>
        <p:spPr>
          <a:xfrm>
            <a:off x="6156360" y="333360"/>
            <a:ext cx="1511280" cy="1125720"/>
          </a:xfrm>
          <a:custGeom>
            <a:avLst/>
            <a:gdLst>
              <a:gd name="textAreaLeft" fmla="*/ 72720 w 1511280"/>
              <a:gd name="textAreaRight" fmla="*/ 1438560 w 1511280"/>
              <a:gd name="textAreaTop" fmla="*/ 72720 h 1125720"/>
              <a:gd name="textAreaBottom" fmla="*/ 1053000 h 1125720"/>
            </a:gdLst>
            <a:ahLst/>
            <a:rect l="textAreaLeft" t="textAreaTop" r="textAreaRight" b="textAreaBottom"/>
            <a:pathLst>
              <a:path w="28996" h="21600">
                <a:moveTo>
                  <a:pt x="0" y="0"/>
                </a:moveTo>
                <a:lnTo>
                  <a:pt x="28996" y="0"/>
                </a:lnTo>
                <a:lnTo>
                  <a:pt x="28996" y="21600"/>
                </a:lnTo>
                <a:lnTo>
                  <a:pt x="0" y="21600"/>
                </a:lnTo>
                <a:close/>
              </a:path>
              <a:path fill="lightenLess" w="28996" h="21600">
                <a:moveTo>
                  <a:pt x="0" y="0"/>
                </a:moveTo>
                <a:lnTo>
                  <a:pt x="28996" y="0"/>
                </a:lnTo>
                <a:lnTo>
                  <a:pt x="27596" y="1400"/>
                </a:lnTo>
                <a:lnTo>
                  <a:pt x="1400" y="1400"/>
                </a:lnTo>
                <a:close/>
              </a:path>
              <a:path fill="darken" w="28996" h="21600">
                <a:moveTo>
                  <a:pt x="28996" y="0"/>
                </a:moveTo>
                <a:lnTo>
                  <a:pt x="28996" y="21600"/>
                </a:lnTo>
                <a:lnTo>
                  <a:pt x="27596" y="20200"/>
                </a:lnTo>
                <a:lnTo>
                  <a:pt x="27596" y="1400"/>
                </a:lnTo>
                <a:close/>
              </a:path>
              <a:path fill="darkenLess" w="28996" h="21600">
                <a:moveTo>
                  <a:pt x="289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96" y="20200"/>
                </a:lnTo>
                <a:close/>
              </a:path>
              <a:path fill="lighten" w="289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-231840"/>
            <a:ext cx="9144000" cy="70898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39640" y="404640"/>
            <a:ext cx="360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ffff00"/>
                </a:solidFill>
                <a:latin typeface="Arial"/>
              </a:rPr>
              <a:t>6+20-12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>
            <a:hlinkClick r:id="" action="ppaction://hlinkshowjump?jump=lastslide"/>
          </p:cNvPr>
          <p:cNvSpPr/>
          <p:nvPr/>
        </p:nvSpPr>
        <p:spPr>
          <a:xfrm>
            <a:off x="4427640" y="333360"/>
            <a:ext cx="1511280" cy="1125720"/>
          </a:xfrm>
          <a:custGeom>
            <a:avLst/>
            <a:gdLst>
              <a:gd name="textAreaLeft" fmla="*/ 72720 w 1511280"/>
              <a:gd name="textAreaRight" fmla="*/ 1438560 w 1511280"/>
              <a:gd name="textAreaTop" fmla="*/ 72720 h 1125720"/>
              <a:gd name="textAreaBottom" fmla="*/ 1053000 h 1125720"/>
            </a:gdLst>
            <a:ahLst/>
            <a:rect l="textAreaLeft" t="textAreaTop" r="textAreaRight" b="textAreaBottom"/>
            <a:pathLst>
              <a:path w="28996" h="21600">
                <a:moveTo>
                  <a:pt x="0" y="0"/>
                </a:moveTo>
                <a:lnTo>
                  <a:pt x="28996" y="0"/>
                </a:lnTo>
                <a:lnTo>
                  <a:pt x="28996" y="21600"/>
                </a:lnTo>
                <a:lnTo>
                  <a:pt x="0" y="21600"/>
                </a:lnTo>
                <a:close/>
              </a:path>
              <a:path fill="lightenLess" w="28996" h="21600">
                <a:moveTo>
                  <a:pt x="0" y="0"/>
                </a:moveTo>
                <a:lnTo>
                  <a:pt x="28996" y="0"/>
                </a:lnTo>
                <a:lnTo>
                  <a:pt x="27596" y="1400"/>
                </a:lnTo>
                <a:lnTo>
                  <a:pt x="1400" y="1400"/>
                </a:lnTo>
                <a:close/>
              </a:path>
              <a:path fill="darken" w="28996" h="21600">
                <a:moveTo>
                  <a:pt x="28996" y="0"/>
                </a:moveTo>
                <a:lnTo>
                  <a:pt x="28996" y="21600"/>
                </a:lnTo>
                <a:lnTo>
                  <a:pt x="27596" y="20200"/>
                </a:lnTo>
                <a:lnTo>
                  <a:pt x="27596" y="1400"/>
                </a:lnTo>
                <a:close/>
              </a:path>
              <a:path fill="darkenLess" w="28996" h="21600">
                <a:moveTo>
                  <a:pt x="289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96" y="20200"/>
                </a:lnTo>
                <a:close/>
              </a:path>
              <a:path fill="lighten" w="289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>
            <a:hlinkClick r:id="rId2" action="ppaction://hlinksldjump"/>
          </p:cNvPr>
          <p:cNvSpPr/>
          <p:nvPr/>
        </p:nvSpPr>
        <p:spPr>
          <a:xfrm>
            <a:off x="6156360" y="333360"/>
            <a:ext cx="1511280" cy="1125720"/>
          </a:xfrm>
          <a:custGeom>
            <a:avLst/>
            <a:gdLst>
              <a:gd name="textAreaLeft" fmla="*/ 72720 w 1511280"/>
              <a:gd name="textAreaRight" fmla="*/ 1438560 w 1511280"/>
              <a:gd name="textAreaTop" fmla="*/ 72720 h 1125720"/>
              <a:gd name="textAreaBottom" fmla="*/ 1053000 h 1125720"/>
            </a:gdLst>
            <a:ahLst/>
            <a:rect l="textAreaLeft" t="textAreaTop" r="textAreaRight" b="textAreaBottom"/>
            <a:pathLst>
              <a:path w="28996" h="21600">
                <a:moveTo>
                  <a:pt x="0" y="0"/>
                </a:moveTo>
                <a:lnTo>
                  <a:pt x="28996" y="0"/>
                </a:lnTo>
                <a:lnTo>
                  <a:pt x="28996" y="21600"/>
                </a:lnTo>
                <a:lnTo>
                  <a:pt x="0" y="21600"/>
                </a:lnTo>
                <a:close/>
              </a:path>
              <a:path fill="lightenLess" w="28996" h="21600">
                <a:moveTo>
                  <a:pt x="0" y="0"/>
                </a:moveTo>
                <a:lnTo>
                  <a:pt x="28996" y="0"/>
                </a:lnTo>
                <a:lnTo>
                  <a:pt x="27596" y="1400"/>
                </a:lnTo>
                <a:lnTo>
                  <a:pt x="1400" y="1400"/>
                </a:lnTo>
                <a:close/>
              </a:path>
              <a:path fill="darken" w="28996" h="21600">
                <a:moveTo>
                  <a:pt x="28996" y="0"/>
                </a:moveTo>
                <a:lnTo>
                  <a:pt x="28996" y="21600"/>
                </a:lnTo>
                <a:lnTo>
                  <a:pt x="27596" y="20200"/>
                </a:lnTo>
                <a:lnTo>
                  <a:pt x="27596" y="1400"/>
                </a:lnTo>
                <a:close/>
              </a:path>
              <a:path fill="darkenLess" w="28996" h="21600">
                <a:moveTo>
                  <a:pt x="289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96" y="20200"/>
                </a:lnTo>
                <a:close/>
              </a:path>
              <a:path fill="lighten" w="289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95280" y="3573360"/>
            <a:ext cx="424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ff"/>
                </a:solidFill>
                <a:latin typeface="Arial"/>
              </a:rPr>
              <a:t>Măreşte numărul 22 cu 7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>
            <a:hlinkClick r:id="" action="ppaction://hlinkshowjump?jump=lastslide"/>
          </p:cNvPr>
          <p:cNvSpPr/>
          <p:nvPr/>
        </p:nvSpPr>
        <p:spPr>
          <a:xfrm>
            <a:off x="4788000" y="5157720"/>
            <a:ext cx="1511280" cy="1125720"/>
          </a:xfrm>
          <a:custGeom>
            <a:avLst/>
            <a:gdLst>
              <a:gd name="textAreaLeft" fmla="*/ 72720 w 1511280"/>
              <a:gd name="textAreaRight" fmla="*/ 1438560 w 1511280"/>
              <a:gd name="textAreaTop" fmla="*/ 72720 h 1125720"/>
              <a:gd name="textAreaBottom" fmla="*/ 1053000 h 1125720"/>
            </a:gdLst>
            <a:ahLst/>
            <a:rect l="textAreaLeft" t="textAreaTop" r="textAreaRight" b="textAreaBottom"/>
            <a:pathLst>
              <a:path w="28996" h="21600">
                <a:moveTo>
                  <a:pt x="0" y="0"/>
                </a:moveTo>
                <a:lnTo>
                  <a:pt x="28996" y="0"/>
                </a:lnTo>
                <a:lnTo>
                  <a:pt x="28996" y="21600"/>
                </a:lnTo>
                <a:lnTo>
                  <a:pt x="0" y="21600"/>
                </a:lnTo>
                <a:close/>
              </a:path>
              <a:path fill="lightenLess" w="28996" h="21600">
                <a:moveTo>
                  <a:pt x="0" y="0"/>
                </a:moveTo>
                <a:lnTo>
                  <a:pt x="28996" y="0"/>
                </a:lnTo>
                <a:lnTo>
                  <a:pt x="27596" y="1400"/>
                </a:lnTo>
                <a:lnTo>
                  <a:pt x="1400" y="1400"/>
                </a:lnTo>
                <a:close/>
              </a:path>
              <a:path fill="darken" w="28996" h="21600">
                <a:moveTo>
                  <a:pt x="28996" y="0"/>
                </a:moveTo>
                <a:lnTo>
                  <a:pt x="28996" y="21600"/>
                </a:lnTo>
                <a:lnTo>
                  <a:pt x="27596" y="20200"/>
                </a:lnTo>
                <a:lnTo>
                  <a:pt x="27596" y="1400"/>
                </a:lnTo>
                <a:close/>
              </a:path>
              <a:path fill="darkenLess" w="28996" h="21600">
                <a:moveTo>
                  <a:pt x="289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96" y="20200"/>
                </a:lnTo>
                <a:close/>
              </a:path>
              <a:path fill="lighten" w="289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ff"/>
                </a:solidFill>
                <a:latin typeface="Arial"/>
              </a:rPr>
              <a:t>19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>
            <a:hlinkClick r:id="rId2" action="ppaction://hlinksldjump"/>
          </p:cNvPr>
          <p:cNvSpPr/>
          <p:nvPr/>
        </p:nvSpPr>
        <p:spPr>
          <a:xfrm>
            <a:off x="6516720" y="5157720"/>
            <a:ext cx="1511280" cy="1125720"/>
          </a:xfrm>
          <a:custGeom>
            <a:avLst/>
            <a:gdLst>
              <a:gd name="textAreaLeft" fmla="*/ 72720 w 1511280"/>
              <a:gd name="textAreaRight" fmla="*/ 1438560 w 1511280"/>
              <a:gd name="textAreaTop" fmla="*/ 72720 h 1125720"/>
              <a:gd name="textAreaBottom" fmla="*/ 1053000 h 1125720"/>
            </a:gdLst>
            <a:ahLst/>
            <a:rect l="textAreaLeft" t="textAreaTop" r="textAreaRight" b="textAreaBottom"/>
            <a:pathLst>
              <a:path w="28996" h="21600">
                <a:moveTo>
                  <a:pt x="0" y="0"/>
                </a:moveTo>
                <a:lnTo>
                  <a:pt x="28996" y="0"/>
                </a:lnTo>
                <a:lnTo>
                  <a:pt x="28996" y="21600"/>
                </a:lnTo>
                <a:lnTo>
                  <a:pt x="0" y="21600"/>
                </a:lnTo>
                <a:close/>
              </a:path>
              <a:path fill="lightenLess" w="28996" h="21600">
                <a:moveTo>
                  <a:pt x="0" y="0"/>
                </a:moveTo>
                <a:lnTo>
                  <a:pt x="28996" y="0"/>
                </a:lnTo>
                <a:lnTo>
                  <a:pt x="27596" y="1400"/>
                </a:lnTo>
                <a:lnTo>
                  <a:pt x="1400" y="1400"/>
                </a:lnTo>
                <a:close/>
              </a:path>
              <a:path fill="darken" w="28996" h="21600">
                <a:moveTo>
                  <a:pt x="28996" y="0"/>
                </a:moveTo>
                <a:lnTo>
                  <a:pt x="28996" y="21600"/>
                </a:lnTo>
                <a:lnTo>
                  <a:pt x="27596" y="20200"/>
                </a:lnTo>
                <a:lnTo>
                  <a:pt x="27596" y="1400"/>
                </a:lnTo>
                <a:close/>
              </a:path>
              <a:path fill="darkenLess" w="28996" h="21600">
                <a:moveTo>
                  <a:pt x="289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96" y="20200"/>
                </a:lnTo>
                <a:close/>
              </a:path>
              <a:path fill="lighten" w="289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ff"/>
                </a:solidFill>
                <a:latin typeface="Arial"/>
              </a:rPr>
              <a:t>29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95280" y="3573360"/>
            <a:ext cx="424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ff"/>
                </a:solidFill>
                <a:latin typeface="Arial"/>
              </a:rPr>
              <a:t>Micşorează numărul 27 cu 7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>
            <a:hlinkClick r:id="" action="ppaction://hlinkshowjump?jump=lastslide"/>
          </p:cNvPr>
          <p:cNvSpPr/>
          <p:nvPr/>
        </p:nvSpPr>
        <p:spPr>
          <a:xfrm>
            <a:off x="6948360" y="5157720"/>
            <a:ext cx="1511280" cy="1125720"/>
          </a:xfrm>
          <a:custGeom>
            <a:avLst/>
            <a:gdLst>
              <a:gd name="textAreaLeft" fmla="*/ 72720 w 1511280"/>
              <a:gd name="textAreaRight" fmla="*/ 1438560 w 1511280"/>
              <a:gd name="textAreaTop" fmla="*/ 72720 h 1125720"/>
              <a:gd name="textAreaBottom" fmla="*/ 1053000 h 1125720"/>
            </a:gdLst>
            <a:ahLst/>
            <a:rect l="textAreaLeft" t="textAreaTop" r="textAreaRight" b="textAreaBottom"/>
            <a:pathLst>
              <a:path w="28996" h="21600">
                <a:moveTo>
                  <a:pt x="0" y="0"/>
                </a:moveTo>
                <a:lnTo>
                  <a:pt x="28996" y="0"/>
                </a:lnTo>
                <a:lnTo>
                  <a:pt x="28996" y="21600"/>
                </a:lnTo>
                <a:lnTo>
                  <a:pt x="0" y="21600"/>
                </a:lnTo>
                <a:close/>
              </a:path>
              <a:path fill="lightenLess" w="28996" h="21600">
                <a:moveTo>
                  <a:pt x="0" y="0"/>
                </a:moveTo>
                <a:lnTo>
                  <a:pt x="28996" y="0"/>
                </a:lnTo>
                <a:lnTo>
                  <a:pt x="27596" y="1400"/>
                </a:lnTo>
                <a:lnTo>
                  <a:pt x="1400" y="1400"/>
                </a:lnTo>
                <a:close/>
              </a:path>
              <a:path fill="darken" w="28996" h="21600">
                <a:moveTo>
                  <a:pt x="28996" y="0"/>
                </a:moveTo>
                <a:lnTo>
                  <a:pt x="28996" y="21600"/>
                </a:lnTo>
                <a:lnTo>
                  <a:pt x="27596" y="20200"/>
                </a:lnTo>
                <a:lnTo>
                  <a:pt x="27596" y="1400"/>
                </a:lnTo>
                <a:close/>
              </a:path>
              <a:path fill="darkenLess" w="28996" h="21600">
                <a:moveTo>
                  <a:pt x="289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96" y="20200"/>
                </a:lnTo>
                <a:close/>
              </a:path>
              <a:path fill="lighten" w="289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148360" y="5157720"/>
            <a:ext cx="1511280" cy="1125720"/>
          </a:xfrm>
          <a:custGeom>
            <a:avLst/>
            <a:gdLst>
              <a:gd name="textAreaLeft" fmla="*/ 72720 w 1511280"/>
              <a:gd name="textAreaRight" fmla="*/ 1438560 w 1511280"/>
              <a:gd name="textAreaTop" fmla="*/ 72720 h 1125720"/>
              <a:gd name="textAreaBottom" fmla="*/ 1053000 h 1125720"/>
            </a:gdLst>
            <a:ahLst/>
            <a:rect l="textAreaLeft" t="textAreaTop" r="textAreaRight" b="textAreaBottom"/>
            <a:pathLst>
              <a:path w="28996" h="21600">
                <a:moveTo>
                  <a:pt x="0" y="0"/>
                </a:moveTo>
                <a:lnTo>
                  <a:pt x="28996" y="0"/>
                </a:lnTo>
                <a:lnTo>
                  <a:pt x="28996" y="21600"/>
                </a:lnTo>
                <a:lnTo>
                  <a:pt x="0" y="21600"/>
                </a:lnTo>
                <a:close/>
              </a:path>
              <a:path fill="lightenLess" w="28996" h="21600">
                <a:moveTo>
                  <a:pt x="0" y="0"/>
                </a:moveTo>
                <a:lnTo>
                  <a:pt x="28996" y="0"/>
                </a:lnTo>
                <a:lnTo>
                  <a:pt x="27596" y="1400"/>
                </a:lnTo>
                <a:lnTo>
                  <a:pt x="1400" y="1400"/>
                </a:lnTo>
                <a:close/>
              </a:path>
              <a:path fill="darken" w="28996" h="21600">
                <a:moveTo>
                  <a:pt x="28996" y="0"/>
                </a:moveTo>
                <a:lnTo>
                  <a:pt x="28996" y="21600"/>
                </a:lnTo>
                <a:lnTo>
                  <a:pt x="27596" y="20200"/>
                </a:lnTo>
                <a:lnTo>
                  <a:pt x="27596" y="1400"/>
                </a:lnTo>
                <a:close/>
              </a:path>
              <a:path fill="darkenLess" w="28996" h="21600">
                <a:moveTo>
                  <a:pt x="289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96" y="20200"/>
                </a:lnTo>
                <a:close/>
              </a:path>
              <a:path fill="lighten" w="289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7T16:46:41Z</dcterms:created>
  <dc:creator>Liliana</dc:creator>
  <dc:description/>
  <dc:language>en-US</dc:language>
  <cp:lastModifiedBy>Liliana</cp:lastModifiedBy>
  <dcterms:modified xsi:type="dcterms:W3CDTF">2009-04-07T18:42:33Z</dcterms:modified>
  <cp:revision>3</cp:revision>
  <dc:subject/>
  <dc:title>Bună ziua, copii! </dc:title>
</cp:coreProperties>
</file>